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FAF-12F3-4DC0-B4A8-076F38F2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544-DCE3-4AD9-ABEE-64DD83E5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F3AE-853D-4836-96DA-47A77302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CD9-FFE7-443A-9F2E-149D5F08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D35-CC48-4EE5-B864-71429BDD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7E7-075F-4B17-991D-C33DEF80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9A9-2C63-4C24-BCA4-B7F27CC9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FCB-84DA-4DE4-AB62-CC8A19D0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D5C-EE5B-4541-BA8A-1CC7BB7D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47E0-C63D-4D21-B88E-A380BC3C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8C8-B419-445D-A31F-2422B0B8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817-081E-4519-AD78-DE11CD6D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2A60-B997-40FD-BA2C-2FB4116A1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phing Technique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13480" cy="495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0880" y="152280"/>
            <a:ext cx="861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ly label 3 key points in each of the following grap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77684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038480" y="2971800"/>
            <a:ext cx="4648320" cy="3503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5257800" cy="426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60570" b="2857"/>
          <a:stretch/>
        </p:blipFill>
        <p:spPr>
          <a:xfrm>
            <a:off x="304920" y="3009960"/>
            <a:ext cx="2590560" cy="64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rcRect l="59631" t="16371" r="0" b="0"/>
          <a:stretch/>
        </p:blipFill>
        <p:spPr>
          <a:xfrm>
            <a:off x="152280" y="4267080"/>
            <a:ext cx="2438640" cy="51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152280"/>
            <a:ext cx="861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ly label 3 key points in addition to th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 and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interce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4876920" cy="70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52280"/>
            <a:ext cx="861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ly label 3 key points in each of the following grap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76160" y="1828800"/>
            <a:ext cx="493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086760" cy="733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1520" y="1752480"/>
            <a:ext cx="3286080" cy="1381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1522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019920" cy="996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152280"/>
            <a:ext cx="86108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Show 4 key points in your first graph and show where they are located in each of the 3 graphs that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2062080"/>
            <a:ext cx="6553080" cy="604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152280"/>
            <a:ext cx="86108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Show 3 key points in your first graph and show where they are located in each of the 3 graphs that fol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9T14:50:37Z</dcterms:modified>
  <cp:revision>12</cp:revision>
  <dc:subject/>
  <dc:title>Slide 1</dc:title>
</cp:coreProperties>
</file>